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FA57-10CE-4F37-AC02-041B4B1F2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7A72-223A-4327-BBD4-A4A41511A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C422-45D4-41EA-B98B-64597AA01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6D77-E44A-4B7B-8CF3-D066B6FA2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5AC2-B706-4621-A1DB-76926084D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16CC-B6F5-45F7-8CE8-AB7396D89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D6C8-B0AF-440E-B900-A46BB0EE9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9BCC-B32E-4295-9004-744DD07AC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1E86-B51E-4037-9B57-D07350A43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5144-E3B7-4568-B83E-951C498C9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43C3-5BC0-4B21-85EB-D0EE90547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AECD-9CE4-44CB-AD6F-461E837AB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7C46-0D97-4518-B370-F157F0F81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1691-BC05-46B0-972D-35EE9D4EB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34D2-D5D2-4905-87C0-FDF55A925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92240" y="368280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58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368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512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9224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368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512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68200" y="181080"/>
            <a:ext cx="868536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58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2240" y="368280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58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368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3512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224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368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3512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68200" y="181080"/>
            <a:ext cx="868536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58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280440" y="6721560"/>
            <a:ext cx="403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 flipV="1">
            <a:off x="0" y="0"/>
            <a:ext cx="9140760" cy="84240"/>
          </a:xfrm>
          <a:prstGeom prst="rect">
            <a:avLst/>
          </a:prstGeom>
          <a:gradFill rotWithShape="0">
            <a:gsLst>
              <a:gs pos="0">
                <a:srgbClr val="05aae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281160" y="6594480"/>
            <a:ext cx="3639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Copyright © 2006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5"/>
          <p:cNvSpPr/>
          <p:nvPr/>
        </p:nvSpPr>
        <p:spPr>
          <a:xfrm flipV="1">
            <a:off x="0" y="0"/>
            <a:ext cx="9140760" cy="84240"/>
          </a:xfrm>
          <a:prstGeom prst="rect">
            <a:avLst/>
          </a:prstGeom>
          <a:gradFill rotWithShape="0">
            <a:gsLst>
              <a:gs pos="0">
                <a:srgbClr val="65cae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covermaster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1620720" y="5888160"/>
            <a:ext cx="36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lides prepared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y Withgott and Heidi Marc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96720" y="646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433080" y="6746760"/>
            <a:ext cx="403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054080" y="232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734040" y="2158920"/>
            <a:ext cx="141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5aae5"/>
                </a:solidFill>
                <a:latin typeface="Times New Roman"/>
              </a:rPr>
              <a:t>Ch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84080" y="3086280"/>
            <a:ext cx="394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9dcf"/>
                </a:solidFill>
                <a:latin typeface="Times New Roman"/>
              </a:rPr>
              <a:t>Environmental Systems and Ecosystem E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762120" y="4724280"/>
            <a:ext cx="374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3b18"/>
                </a:solidFill>
                <a:latin typeface="Times New Roman"/>
              </a:rPr>
              <a:t>Part 1: Foundations of Environmental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7462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1-30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2240" y="2234880"/>
            <a:ext cx="878832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– What was hypox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ove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 about aging article – turn in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 new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2240" y="2247480"/>
            <a:ext cx="87883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07_01a"/>
          <p:cNvPicPr/>
          <p:nvPr/>
        </p:nvPicPr>
        <p:blipFill>
          <a:blip r:embed="rId1"/>
          <a:stretch/>
        </p:blipFill>
        <p:spPr>
          <a:xfrm>
            <a:off x="0" y="2286000"/>
            <a:ext cx="8991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ositive feedback loop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585720"/>
            <a:ext cx="8229600" cy="33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e feedback 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stabilizing a system, it drives it further toward one extreme or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growth in human population, spread of cancer, erosion, climat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common in nature -- more common in natural systems altered by human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07_01b"/>
          <p:cNvPicPr/>
          <p:nvPr/>
        </p:nvPicPr>
        <p:blipFill>
          <a:blip r:embed="rId1"/>
          <a:stretch/>
        </p:blipFill>
        <p:spPr>
          <a:xfrm>
            <a:off x="2514600" y="4105440"/>
            <a:ext cx="64040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2240" y="2247480"/>
            <a:ext cx="87883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07_01b"/>
          <p:cNvPicPr/>
          <p:nvPr/>
        </p:nvPicPr>
        <p:blipFill>
          <a:blip r:embed="rId1"/>
          <a:stretch/>
        </p:blipFill>
        <p:spPr>
          <a:xfrm>
            <a:off x="225360" y="1828800"/>
            <a:ext cx="8918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ystems are activ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740960"/>
            <a:ext cx="5045040" cy="28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equilibr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processes move in opposing directions at equivalent rates, balancing their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eosta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ystem maintains constant or stable internal cond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533520" y="556272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is hard to fully understand systems; they connect to other systems and do not have sharp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07_02"/>
          <p:cNvPicPr/>
          <p:nvPr/>
        </p:nvPicPr>
        <p:blipFill>
          <a:blip r:embed="rId1"/>
          <a:stretch/>
        </p:blipFill>
        <p:spPr>
          <a:xfrm>
            <a:off x="3182760" y="380880"/>
            <a:ext cx="5961240" cy="6477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459080"/>
            <a:ext cx="4456080" cy="43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ergent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characteristics not evident in the components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hole is more than the sum of the par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is made of many parts, but it’s function is more than just it’s parts (habitat, food, climate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Understanding requires system consideration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49760"/>
            <a:ext cx="8153280" cy="247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al entities are complex systems that interact with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river systems consist of hundreds of smaller tributary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environmental problems, all appropriate systems must be considered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07_03"/>
          <p:cNvPicPr/>
          <p:nvPr/>
        </p:nvPicPr>
        <p:blipFill>
          <a:blip r:embed="rId1"/>
          <a:stretch/>
        </p:blipFill>
        <p:spPr>
          <a:xfrm>
            <a:off x="762120" y="3483000"/>
            <a:ext cx="76197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ystems are perceived in various way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617400"/>
            <a:ext cx="8381880" cy="556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ing a system can be easier if they are broken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rths structural sphe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tho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 and sedi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dro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, solid or vapor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o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planet’s living organisms and the abiotic portions of the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ies overlap, so the systems inte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Gulf of Mexico from a systems perspectiv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2240" y="1436400"/>
            <a:ext cx="4883040" cy="43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ents from fertilizer enter the Mississippi River from Midwestern 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tilizer use has increased, which cause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toplankton to grow, t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teria eat dead phytoplankton and wastes and deplete oxygen, caus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 and other aquatic organisms to suffo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" descr="07_04"/>
          <p:cNvPicPr/>
          <p:nvPr/>
        </p:nvPicPr>
        <p:blipFill>
          <a:blip r:embed="rId1"/>
          <a:stretch/>
        </p:blipFill>
        <p:spPr>
          <a:xfrm>
            <a:off x="4876920" y="2133720"/>
            <a:ext cx="40384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68200" y="194760"/>
            <a:ext cx="868536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utrophicati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320480"/>
            <a:ext cx="8001000" cy="12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nutrient overenrichment, blooms of algae, increased production of organic matter, and ecosystem degra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07_05"/>
          <p:cNvPicPr/>
          <p:nvPr/>
        </p:nvPicPr>
        <p:blipFill>
          <a:blip r:embed="rId1"/>
          <a:stretch/>
        </p:blipFill>
        <p:spPr>
          <a:xfrm>
            <a:off x="1523880" y="3124080"/>
            <a:ext cx="670572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2-2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866880"/>
            <a:ext cx="8788680" cy="34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components of Carbon Dioxide.  Then describe it’s emergen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eco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energy flow through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gross primary production, net primary produc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2-1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2240" y="2796480"/>
            <a:ext cx="8788320" cy="16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dynamic equilibriu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ecology and feedback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Review: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198440"/>
            <a:ext cx="878832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ne, or with a partner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some time to come up with an example of either a negative or positive feed back loop.  Create a diagram to illustrate thi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show it to th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2-3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2240" y="2043000"/>
            <a:ext cx="8788320" cy="31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4 “spheres” that we can break earth’s systems down in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an ec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energy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t Earth Mov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8200" y="135000"/>
            <a:ext cx="86853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cosystems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7080" y="1447560"/>
            <a:ext cx="8788320" cy="44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rganisms and nonliving entities that occur and interact in a particular area at the sam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abiotic and biotic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flows and matter cycles among thes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logical entities are highly intertwined with chemical and physical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s and feedback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8200" y="160560"/>
            <a:ext cx="8685360" cy="57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99"/>
                </a:solidFill>
                <a:latin typeface="Arial"/>
              </a:rPr>
              <a:t>Systems of interacting entities in ecosystems</a:t>
            </a:r>
            <a:endParaRPr b="1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520" y="761760"/>
            <a:ext cx="81536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from the sun flows through the ec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nergy is processed and trans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er is recycled within ecosystem, resulting in outputs such as heat, water flow, and waste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07_06"/>
          <p:cNvPicPr/>
          <p:nvPr/>
        </p:nvPicPr>
        <p:blipFill>
          <a:blip r:embed="rId1"/>
          <a:stretch/>
        </p:blipFill>
        <p:spPr>
          <a:xfrm>
            <a:off x="914400" y="2781360"/>
            <a:ext cx="75438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2240" y="2247480"/>
            <a:ext cx="87883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07_06"/>
          <p:cNvPicPr/>
          <p:nvPr/>
        </p:nvPicPr>
        <p:blipFill>
          <a:blip r:embed="rId1"/>
          <a:stretch/>
        </p:blipFill>
        <p:spPr>
          <a:xfrm>
            <a:off x="0" y="1612800"/>
            <a:ext cx="91440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8200" y="135000"/>
            <a:ext cx="86853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ergy is converted to biomas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55320" y="990720"/>
            <a:ext cx="8559720" cy="51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imary production 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version of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lar energy to chemical energy by autotroph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Gross primary production (GPP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similation of energy by autotroph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et primary produc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NPP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ergy remaining  after respiration, and is used to generate biom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vailable for heterotroph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condary produc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iomass generated by heterotrophs (w/ NRG from auto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oductivity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ate at which ecosystems generate biom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Net primary productivity of various ecosystem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7" name="Picture 4" descr="07_07a"/>
          <p:cNvPicPr/>
          <p:nvPr/>
        </p:nvPicPr>
        <p:blipFill>
          <a:blip r:embed="rId1"/>
          <a:stretch/>
        </p:blipFill>
        <p:spPr>
          <a:xfrm>
            <a:off x="1219320" y="2209680"/>
            <a:ext cx="6172200" cy="4481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533520" y="1219320"/>
            <a:ext cx="78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net primary produc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ecosystems whose plants rapidly convert solar energy to bio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NPP variation causes global geographic pattern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0" name="Picture 4" descr="07_07b"/>
          <p:cNvPicPr/>
          <p:nvPr/>
        </p:nvPicPr>
        <p:blipFill>
          <a:blip r:embed="rId1"/>
          <a:stretch/>
        </p:blipFill>
        <p:spPr>
          <a:xfrm>
            <a:off x="990720" y="121932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609480" y="5807160"/>
            <a:ext cx="802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PP increases with temperature and precipitation on land, and with light and nutrients in aquatic ec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2-6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2240" y="1476720"/>
            <a:ext cx="87883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two examples of ecosystems that have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 net primary 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/ discuss the “viewpoints” art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micro and macronutr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landscape ec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– Fri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8200" y="70920"/>
            <a:ext cx="8685360" cy="6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Nutrients can limit productivit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14400"/>
            <a:ext cx="8788320" cy="483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utrien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ements and compounds required for survival that are consume by organis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cronutrien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utrients required in relative large amou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itrogen, carbon, phosphoru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icronutrien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utrients needed in smaller amount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timulate plant productio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itrogen and phosphoru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re important for plant and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gal grow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07_08"/>
          <p:cNvPicPr/>
          <p:nvPr/>
        </p:nvPicPr>
        <p:blipFill>
          <a:blip r:embed="rId1"/>
          <a:stretch/>
        </p:blipFill>
        <p:spPr>
          <a:xfrm>
            <a:off x="5791320" y="3962520"/>
            <a:ext cx="3352680" cy="2676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990720" y="53341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amatic growth of algae in water treated with phosph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4648320" y="5257800"/>
            <a:ext cx="2361960" cy="53352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Nutrient runoff is devastating aquatic system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62960"/>
            <a:ext cx="8229600" cy="215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 zones of water result from nutrient pollution from farms, cities, and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ution and human impact have devastated fisheries and altered aquatic eco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tists are investigating innovative and economical ways to reduce nutrient run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07_09"/>
          <p:cNvPicPr/>
          <p:nvPr/>
        </p:nvPicPr>
        <p:blipFill>
          <a:blip r:embed="rId1"/>
          <a:stretch/>
        </p:blipFill>
        <p:spPr>
          <a:xfrm>
            <a:off x="0" y="340848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4419720" y="44956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hytoplankton blooms off the Louisiana co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2240" y="3358080"/>
            <a:ext cx="87883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scape ec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8200" y="135000"/>
            <a:ext cx="86853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cosystems integrate spatiall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142640"/>
            <a:ext cx="8788320" cy="31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systems vary greatly in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rm “ecosystem” is most often applied to self-contained systems of moderate geographic ext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t ecosystems may share components and inte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t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onal zones between two ecosystems in which elements of different ecosystems 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07_10"/>
          <p:cNvPicPr/>
          <p:nvPr/>
        </p:nvPicPr>
        <p:blipFill>
          <a:blip r:embed="rId1"/>
          <a:stretch/>
        </p:blipFill>
        <p:spPr>
          <a:xfrm>
            <a:off x="4419720" y="3846600"/>
            <a:ext cx="4724280" cy="3011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0" y="761760"/>
            <a:ext cx="8788320" cy="41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scape ec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y of landscape structure and how it affects the abundance, distribution, and interaction of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ful for sustainable regio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the landscape, and are distributed spatially in complex patterns (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a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sc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than an ecosystem and smaller than a bi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68200" y="70920"/>
            <a:ext cx="8685360" cy="6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Landscape ecolog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2240" y="2247480"/>
            <a:ext cx="87883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07_10"/>
          <p:cNvPicPr/>
          <p:nvPr/>
        </p:nvPicPr>
        <p:blipFill>
          <a:blip r:embed="rId1"/>
          <a:stretch/>
        </p:blipFill>
        <p:spPr>
          <a:xfrm>
            <a:off x="0" y="1027080"/>
            <a:ext cx="9144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etapopulations and conservation biolog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2240" y="644040"/>
            <a:ext cx="8788320" cy="590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apop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twork of subpop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members stay within patches but may move among patches or mate with those of other p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s in small patches risk exti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ervation biolog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the loss, protection, and restoration of bio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bitat fragm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ing habitat into small, isolated patches due to human 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id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 strips of habitat can link p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07_11"/>
          <p:cNvPicPr/>
          <p:nvPr/>
        </p:nvPicPr>
        <p:blipFill>
          <a:blip r:embed="rId1"/>
          <a:stretch/>
        </p:blipFill>
        <p:spPr>
          <a:xfrm>
            <a:off x="4307040" y="1219320"/>
            <a:ext cx="4836960" cy="52578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8200" y="52560"/>
            <a:ext cx="86853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Remote sensing applies landscape ecolog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600" y="990360"/>
            <a:ext cx="5533920" cy="42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sensing technologies allow scientists to create a complete picture of the landsca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ographic information system (GI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computer software used in landscape ecology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nalyze how elements within the landscape are arranged to help make planning and land-use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2240" y="2247480"/>
            <a:ext cx="87883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07_11"/>
          <p:cNvPicPr/>
          <p:nvPr/>
        </p:nvPicPr>
        <p:blipFill>
          <a:blip r:embed="rId1"/>
          <a:stretch/>
        </p:blipFill>
        <p:spPr>
          <a:xfrm>
            <a:off x="1905120" y="0"/>
            <a:ext cx="63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is lecture will help you understand: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2240" y="1577880"/>
            <a:ext cx="4394160" cy="40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e of environmental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systems and how living and nonliving entities intera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rbon, phosphorus, nitrogen, and water cyc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plate tectonics and the rock cycle shape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07_00CO"/>
          <p:cNvPicPr/>
          <p:nvPr/>
        </p:nvPicPr>
        <p:blipFill>
          <a:blip r:embed="rId1"/>
          <a:stretch/>
        </p:blipFill>
        <p:spPr>
          <a:xfrm>
            <a:off x="4952880" y="1828800"/>
            <a:ext cx="388620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entral Case: The Gulf of Mexico’s “Dead Zone”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611000"/>
            <a:ext cx="4343400" cy="416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lf of Mexico brings in 600 million kg/year shrimp, fish, and shellf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lf “dead zone” =  a region of water so depleted of oxygen that kills or drives away marine organis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pox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low concentrations of dissolved oxygen in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fertilizer, runoff, sew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07_00-CS"/>
          <p:cNvPicPr/>
          <p:nvPr/>
        </p:nvPicPr>
        <p:blipFill>
          <a:blip r:embed="rId1"/>
          <a:stretch/>
        </p:blipFill>
        <p:spPr>
          <a:xfrm>
            <a:off x="4876920" y="1905120"/>
            <a:ext cx="3576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Earth’s system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1440"/>
            <a:ext cx="7848720" cy="40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network of relationships among parts elements or components that interact with and influence one an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hange of energy, matter, or in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s inputs of energy, matter, or information; processes these inputs; and produces out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often show behavior that is hard to understand and pred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idea…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179360"/>
            <a:ext cx="8788320" cy="14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at systems are very comple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nderstand environmental problems may require looking at many system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2240" y="2190240"/>
            <a:ext cx="8788320" cy="28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55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Feedback loo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51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 system’s output serves as input to that same syste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51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 circular proces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26720"/>
            <a:ext cx="8229600" cy="39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tive feedback 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opposes the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and output essentially neutralize one another, which stabilizes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utput that results from a system moving in one direction acts as input that moves the system in the other direction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temperature, predator / prey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ystems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07_01a"/>
          <p:cNvPicPr/>
          <p:nvPr/>
        </p:nvPicPr>
        <p:blipFill>
          <a:blip r:embed="rId1"/>
          <a:stretch/>
        </p:blipFill>
        <p:spPr>
          <a:xfrm>
            <a:off x="2057400" y="4162320"/>
            <a:ext cx="64008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6:08:50Z</dcterms:created>
  <dc:creator>Melissa Limmer</dc:creator>
  <dc:description/>
  <dc:language>en-US</dc:language>
  <cp:lastModifiedBy>SASD</cp:lastModifiedBy>
  <dcterms:modified xsi:type="dcterms:W3CDTF">2010-12-06T17:29:08Z</dcterms:modified>
  <cp:revision>125</cp:revision>
  <dc:subject/>
  <dc:title>Ch. 7</dc:title>
</cp:coreProperties>
</file>